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17B-4898-4850-97D0-13905996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45C-47B0-4C35-BC87-1640104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9BA-6A66-4F91-A073-8AADD0A4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839-CD83-4DB2-AF8F-627B2F72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3D7-7FBA-4659-B9F4-F91CBA2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373-FA49-4CE9-B2A1-466F3E85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673-1A3C-4EA7-8DA3-D02EC1B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780-78C5-4AF9-999E-E2588B6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A21-E755-44B5-845B-75ADC2B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D6A-83B3-4B57-9659-CBE0D92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BAB-01B2-42D6-A4A4-54CB1E9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098-0A21-472A-B26F-D7B524D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96E-12AF-4909-A930-C4B7AAC527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mensionierung vo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 und Konstruktio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bali 17.05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58972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e Bilder und Formeln sind Auszüge aus dem Roloff/Matek Maschinenele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2133720"/>
            <a:ext cx="88916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35164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8713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ftverhältnisse bei statischer oder dynamischer Quer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84644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488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74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teilen der Schrauben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im Montagezu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Schra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Bau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stat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dynam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luss der Krafteinleitung in die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verhältnisse statischer und dynamischer Querkräf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iehen der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agevorspannkraft, Anziehfaktor und –verfah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altung der maximal zulässigen Schraubenk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erhaltbarkeit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chlagspannun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dynamische Sicherhei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8428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bereits erläutert, wird die Schraube durch die Zusatz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chwingend belas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adurch gegebene Ausschlag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hrt zu einer Ausschlagspannu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äfte am Gewi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59280" y="6021360"/>
            <a:ext cx="16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6021360"/>
            <a:ext cx="165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ndemo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63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437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ür den Normalfall (unbehandelte, geölte Schrauben) lässt sich für Befestigungsschrauben das Anziehdrehmoment hinreichend genau ermitteln durch die einfache Bezieh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48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wichtigen Verschraubungen ist ein kontrolliertes Anziehen (Anziehgerät s. Bild 8-21) unbedingt erforderlich, um eine verlangte Vorspannkraft möglichst genau zu erreich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agewerkze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532764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1557360"/>
            <a:ext cx="72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Maß für die Streuung der Vorspannkraft ist der Anziehfaktor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ell ermittelte werte können der TB 8-11 ent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–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haltung der maximal zulässigen Schrauben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wendungsbeispi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90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3500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behä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pp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34136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0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M TB 8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rechnung von Befestigungsschrau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82000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2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12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Längenänderu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489800" cy="389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0364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628640"/>
            <a:ext cx="5329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chgiebigkeit der Schrau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ch Addition der Nachgiebigkeiten der einzelnen Elemente erhält man die Nachgiebigkeit der Schra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5661000"/>
            <a:ext cx="5580000" cy="119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50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4869000"/>
            <a:ext cx="8101080" cy="198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244000" y="5157720"/>
            <a:ext cx="576000" cy="37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867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1:12:09Z</dcterms:created>
  <dc:creator>,</dc:creator>
  <dc:description/>
  <dc:language>en-US</dc:language>
  <cp:lastModifiedBy>,</cp:lastModifiedBy>
  <dcterms:modified xsi:type="dcterms:W3CDTF">2008-05-16T22:14:21Z</dcterms:modified>
  <cp:revision>15</cp:revision>
  <dc:subject/>
  <dc:title>Dimensionierung von Schraubenverbindungen</dc:title>
</cp:coreProperties>
</file>